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AF1-6D33-4F69-975E-C20CA0FE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C19-726C-4E03-8B04-D59A246C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7876-0A07-4E56-855C-0EBF7D86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3E385-6E3B-4CF2-8C7E-55C2232E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43FB-23F5-43E0-84A4-46099A3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09DB6-923A-4D06-B4EC-DE71F8F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A8D24-D7DC-4013-89A3-3D031C3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E9589-F55A-4BC7-9EAC-9CBD241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E567-A86C-49B4-8484-04932AD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C9FA1-3F0F-4F11-BC95-A3C8D431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F1DD0-2039-4AC6-889E-258B5988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201C9-C425-4E24-9EF2-DDED4795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31A-E89E-416E-BE8A-2052FCC2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E90F6-C4BC-4521-9951-60C816B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FFA1F-FE7F-4B72-9A2A-DFC7102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C2A9-E07E-4E21-90B1-041512DF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8FDAC-0A27-4966-B1FF-6B8B9405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0042-3067-4F3B-B440-C38ABF6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65D89-4BAA-46AB-9CC6-AE34920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52C90-CFE0-4A00-A02B-F62C321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409D0-AD26-4060-9C2C-2B1E69A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2AE43-02E9-4EF7-A6D9-2686BF3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878BD-9FE3-455D-B595-BF790A8E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291-129D-41CC-BF83-24B2F5FC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A1513-D31A-47A8-A28D-B2CED51B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3F04-73DF-4B9D-88A2-B74312E6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5888-E944-410E-A7B4-0892E2CF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0628-8D23-4CA4-AAAD-5D36241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B79CF-29B6-41AF-84F6-A7C4A6E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9D9DC-8A72-413B-B020-9B27D86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E719B-35E9-4087-9918-B587609D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62825-769F-43CB-8369-0C8895A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E1B6-CF30-4618-BB41-9CBAD5C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BA0C-B08C-426A-A9B5-9398EBB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904B-9316-4369-A8BF-25DEE691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D4C53-5E0F-4E64-AF6F-B6A0027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DF5E-AD5C-4914-9EBA-B9670DB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3C9A0-B204-402C-8366-0563BE4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9BCD7-273B-4B3E-9076-C21AD932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2AB5B-A4FB-4A45-B748-B021F792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2CE3E-96D8-4443-8C43-8FE91B6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1BE70-F618-49AB-AE42-D4C2698D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10EA7-BE36-429C-9323-0D82C89A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D6FD-21CC-4179-8F9A-EB5C2BA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E74A1-AFEB-48E0-B808-45B560B8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55D3-FA96-4763-9F48-3BA2581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609B2-C440-40D6-9276-6594EB4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5E434-E33E-4A66-90E2-FB81AF8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CB9C8-8EEF-4E46-8ADB-EE7C2932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F453-599D-47A8-A52A-B5FCDA6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3E288-904A-4A33-9882-1C6407A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3564E-77EC-4B60-8ADC-E26C463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DFA19-90EE-4F44-9015-5DAC8F0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735D8-5F59-4CB1-B275-2B00A13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05340-F395-4C32-91D6-5AD9E570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FC1F7-AD6C-4D32-8E53-2238DB7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6B4A-0C33-4F2B-BA54-992280DD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6A0B5-3BEE-4402-BD74-1372A0D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E2A79-BE80-496F-9E9D-56DD495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1D83A-88D2-4DD0-8772-96BC763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51721-1758-4C8D-999E-CCB7592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AC61B-BFE4-4249-A6E1-BE1E070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0E60F-6AA7-47E9-B16C-8BDDFB71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8BDBC-F6BC-4E80-B6FA-D7CEA0B8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7A680-D5BC-4D5A-A42E-F1E2C1F7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8CD2A-5061-4013-8156-ED00909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242EC-43C8-43B2-BAD1-4FD5422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6121-65B3-4EBD-BA2B-E00ECDEA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CE193-248E-4779-897A-55932119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51FCC-98C4-4646-83E9-C3043AD1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6668C-F047-49D9-8EFD-1B42F3F1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2EF3B-ED37-45A5-8CC7-D26B321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2C7BD-F22C-4485-A5CF-1A44E4B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A8C14-CC71-4AFF-B667-31A23F3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006A7-4C1E-44AA-BEA5-F264132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D0C74-9963-444A-95E9-46D7C3D4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F67F7-AB2D-4B0D-BB18-FB3CFD4C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A596F-CA07-42D8-8376-4B6EEFDF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E03-9D36-4290-9DAF-5198A0EB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FD289-CFC1-44D3-8AAC-AD53D89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E6872-C59A-4A50-A81B-D1497A8B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69C09-691B-4A1E-886C-0CD7122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1D6BB-A601-4830-B4E0-7B24767D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C734B-A529-4315-84F5-5511FFB0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1B343-876F-4622-96D8-041DCF2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70834-6AE4-4A58-82DD-8EDB09C0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E8735-2E07-4131-B8A9-D69066B3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5FF15-7470-4E54-81B0-3E446705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EA7F3-74F7-44E7-A295-83BD0C7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FA9-BCAB-4752-8F1F-49F45265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28F2A-401A-4675-8ACF-63AF55E7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9D587-1F2B-4143-A66A-BCACDCC4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1FD59-C065-42D8-A336-630F90D7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C8EFB-42AB-4545-9D00-F88B223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67D0B-8956-4C43-8022-DBA5BFF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E1031-4838-4EF0-BE9B-DB6E426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41E11-4EA2-4C34-BDE7-D14D956F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FAF41-5392-4E95-86A8-0ACB06F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5CA04-DA99-4B00-B197-C6D3564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C3F50-F6C6-4E23-900F-6FFDA6A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79EA-05EA-49A2-BB3B-89F7EEE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E7B8E-53A5-4F6F-81AD-A7663A1E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02FC1-503C-4180-9DAA-E34AD068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39E47-C062-4981-BE84-8B10B8B3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134DC-B015-4F1F-88EB-8F0A33ED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43419-11E1-4796-BCBA-8573382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A7582-45D1-4977-A9EC-DA446D4D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06A53-6A2D-41CE-A357-B7EFFA7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0E154-91A5-4442-9AB1-13FED25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AED60-E729-4193-8DE7-25D1314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782AB-6167-4A11-AF12-362A0A9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ED6-016F-4039-849E-B93FBAF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4BB9-75E0-4737-889B-935D145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3A796-5163-473D-9E1B-2EAF659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E0955-3CF1-48E8-B70B-D72A1AE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67588-90DE-4389-A3D2-3085A5D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E8511F-C010-49BC-ABFA-5F3FAD61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D79DEE-3470-48E2-BCF2-1FBA2CC8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331D4-1CEC-45D3-951F-EA22B58D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4F748-406C-44AC-833C-62D0D30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A37D8-1E5A-49B7-A3E5-041152E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0B44AC-CE0A-4875-8302-AB435651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32684-522A-434B-A6AD-4C3329C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E76F-876A-473E-BD14-82C1D63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7AB8A-CF13-4C93-ADCC-9F63221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FCD72-FB6A-409C-8D4C-E2029B8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12435-6560-4971-B30D-D121B5CB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45CE6-75B6-4F87-9E93-635BC76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2D79A-CF92-43A1-834B-FAA6C46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78D2D-C52C-408A-AE3C-33CEE741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60956-BF8C-45B6-A018-831905EA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5FE1B-3DD0-4932-983E-4726A93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63DFB-6102-4FB5-BD9B-7A95F9F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6E98C-5C70-4BEF-8296-02E5F15D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DE83-5CF5-4509-807B-5B0EE3A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55BCE-58C3-4505-BB70-227ACEA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57004-84CB-4123-B6E2-245F3605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23D08-B186-41E7-85B6-231323A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863A5-F010-4D6A-B16D-9105109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EBAE2-08D7-4FF3-BBFE-CEE5CB03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B75D1-7FC4-4506-A824-2B18CEE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B537A-2A83-49BF-9FD7-B633DD2C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580E5-D0D8-4C24-8510-5741564A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1FD7F-579D-47CD-81B1-BBF585F5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A1551-B200-4649-909A-3625E228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158-DF40-405E-A99D-23D4457F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4F9AE-AC4F-441B-B79C-55430366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1BF5B-309F-4CBC-89E5-9035F31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DAEA7-E016-454D-B3F2-8AAD8B5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944B5-0124-48F1-AF83-F1A4DE19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FB766-A1A6-4293-BD9B-D9DD5D0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72E23-B592-451A-8470-A5A89FB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7CF2D-3EFA-489E-B671-65C662E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E2C5E-80C1-4246-8D30-1402160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553DE-CD28-4DFE-8B7D-994EEC2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8F670-E9D9-4ADF-8479-BD60293A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C12B-33CC-493B-9252-61E30BA5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96FD3-A8BE-47A6-BAE9-28E53CC3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58BB9-BFAF-4F53-8C56-8CF9EF50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EFD6F-A92C-42E5-AAD0-C59E031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7C456-71BD-40F5-8ED4-8185141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C5827-198E-4F30-8B9E-ACD6265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017DEC-FDB4-4FF4-B944-169CFEB2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73DB9-32C4-4C9F-9846-C3869860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C3504-6BEE-4E57-A1D5-C5E68A8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10743-B2B0-4737-BB45-65773A3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3F6F3-7E07-4C00-B996-3528EF65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C0F2-AEF0-4CD7-808C-5DE2E1C3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E225D5-41DD-453C-BF4E-39B6226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716D8-B290-4976-BF53-7D59B6E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1AE5B-07B6-45C6-9635-C6940FF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CBEF-0CF5-474D-9B3C-9B1B5715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A7AE-9ADA-4765-87F5-37D2A83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660D-26F1-4F66-AD52-0449E19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F35D-BD98-44AC-80BF-8DD2D7E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EBA-07B5-426C-A39C-4882673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2690-B6D1-42B3-AB3A-3F8C536F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909B-4063-4453-B30A-CFE9C23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A669-C8C6-4D38-9598-4D8E881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1756-3876-4E13-95B4-E67A169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AE4A-9C65-4B45-9B43-4154E9F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CE9C-3520-40EB-8D0F-BE465BA8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502E-4D95-4933-8D7E-D0E0A365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E71F-83F2-4DC4-A816-95C3073F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9E2C-F47C-46E4-961C-5A49C239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A35F-92A1-42F8-A87B-66614049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4B6-EE0D-4F15-AF4D-33A8C86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6CEF-C3B4-42F8-A966-43A639D4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6C1B-2BD0-4C98-8A31-37616F3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36FD-28E1-4D63-A42D-352774A3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B67E-88DF-4C27-AB34-DB2FACE2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F1D4-3FDE-4B23-890D-7BE1E58E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752A-0985-41D7-984F-C1A2535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561F-5CF3-42F1-8FB4-3EA722A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2D01-4E60-422A-A2B8-0F2AD27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28E3-DCFC-4F06-A950-AD7D3476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D107-9C60-44ED-BCA1-FF20E77C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6C3-8B56-499D-AB9B-0A94A66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7142-524B-46C7-93FD-AA25C4D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98DB-6DB2-4984-9849-BA7D695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9B19-4342-4422-9BDB-3DEEFAE3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B2B3-88B0-4A5B-9A6F-0088DB2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CE8A-2B2D-480A-A635-E3A595D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3F51-D84F-4E2E-88DA-5AB0BA1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B70E-46BE-4390-9A6A-B0E091D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DB1E2-F2BB-41D8-A200-B6C312F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09EF-742F-479C-9C86-6ACE7CC6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E215-AB1C-4AF6-83A8-6CCA55FA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3AA-2E6E-4431-8361-E5C0710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E204-3544-44E0-8A36-7909ABF7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C0E6-069B-4FF9-A033-A99030F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3463-6785-4097-9D42-75A3D96A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0C28-777D-4425-8C7F-DC0667CE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E14B7-C57E-44EE-8B65-0ADFA8B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3B6D-2AA9-4540-A7B0-8667F91E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5F52-BE72-46D1-81DA-03A6DD9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3608-9512-48C6-83A0-FAA17FE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4FC4-1658-48E8-BD4C-21AC258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5FDF-2B0B-41CB-AA99-0733CA8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697-F0BE-43E7-A914-DBDA71F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72B7-2371-434D-8FE9-C1CDB0B7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A478-5510-4068-B6C7-1FE37F08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2CB30-C66D-4C94-94C3-B015416B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E652-AE07-410A-ABBE-F5DB9FD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EC44-598C-4618-B39D-227D0FB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0FF1-A3B5-4088-A4F5-4195CC8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02BD-F172-46F4-AE5B-F34B16A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10F9-2DFC-4613-A60D-03356B1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BC0B-5DA7-4AB0-A7AA-5ADBA47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E6E1-EFEC-4EA5-AE6D-9939D3D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F46-A3BE-4F1E-B1C7-D94D058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C09D-40FE-488D-BABA-55E00FB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EF8F-AF9D-444B-B8F3-CEED74D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7843-BFFE-4BCA-893B-B1A32E80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EE0B-6866-4930-87FF-A1532CE6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30D5-3BE9-4849-B64C-C2189588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0C201-04FD-409F-A02B-3003D0E6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E0CB5-7B8C-41AC-8B82-D583B11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82FA-1710-472F-A93C-D973945F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5B97-E89B-470B-B438-FCF4A77A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A3D9-3FEE-40C3-9B6C-7C17F1A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F99-711B-4CBD-914C-2E563B0E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D929-F785-43BA-B804-4F2671A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9828-42A6-47C9-8CB7-BE845BA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32D9-D00A-45A9-997B-77C25CA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77F3-FABD-46A6-8B59-2647F12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41B04-FE55-418F-918D-EC480F86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7718-F861-4405-9FFF-765EFC19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E5F9-AF43-4E97-B532-BAEA74FA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E96E5-A190-4AAE-9056-BC3811D7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F4F2B-809E-41CB-9474-086BE1F3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044F2-62D7-4580-AC24-EB6039A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AB9-92C7-4165-975E-E2DDD8FAB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AFB-C314-41BE-BB31-8C86D560C4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A97-C48D-427B-8FAD-0EBFB490C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A06-3CAA-445C-9DA9-04C2E3402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BB0-334C-4614-BB55-BF747DCF1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65D-2352-4A5A-AD41-4B1EBD867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B3C-86F4-4972-B656-C560245DC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CCE-0F28-4CBA-8776-978FAF66A5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698-C6EA-4BF4-9E8F-AAE276307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176-B3DE-4379-8506-9A9E56607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B59-6FE8-4E0B-B5D3-3D8B5D518A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E24-53BC-4596-9DF5-B19AA9FE22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D68-4D5F-4B18-9A11-C119652C8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E72-693E-4187-AA32-66C581D07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D40F-355C-4E0E-8C73-9EC7C47A7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EBDA-087A-474B-926E-E0A82337B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56CE-AF84-4B7D-91BB-832B3AD0F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067B-17FE-4A6E-8608-A23F403FB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CE93-32EF-4D2A-8C28-67268C5F0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DCD-6376-43D0-B62F-7997D330F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616-ADF4-420F-827B-0E2EFBA9A2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71D-9086-4E65-A13F-42DBE37FE1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2783-0E3D-41DC-A393-0C350B08E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2D2-5D14-4345-B35B-F1A39F8AF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943-35F1-4EC8-862A-8CC762254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F393-3424-4EF8-A6B6-D3A3B24CE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CB9F-9F7F-4792-9EB3-8578B89C7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5799-48AB-45E9-B38A-ED259944E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F6F-FF27-4A04-96CD-3ED1A31FF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48D4-AE24-4A00-BF9D-ED399E37D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2F9-8AFB-42AB-9BC7-86A64F25A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F8C1-0E81-4033-B4D6-40B7EBA1A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5A0A-0B26-44B3-A079-6C72C6B10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448-AE2D-456C-91DB-43A4EA25B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9C4-3A13-49BB-B670-7AE323ECB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D01-3354-4EC8-9246-EF9839BB9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BC49-DF03-4152-9D73-C5622AB33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3F7-599A-42DF-B5FF-3A2F529EF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2A8-DBC6-449D-810F-D62D2A62F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320-F024-4162-BA05-9934CE7A41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62240" y="2805120"/>
            <a:ext cx="64195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704880"/>
            <a:ext cx="8477280" cy="5819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349360" y="6121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2930400" y="3759120"/>
            <a:ext cx="371520" cy="3621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6659640" y="3759120"/>
            <a:ext cx="37152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52280" y="905040"/>
            <a:ext cx="8839440" cy="5047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979640" y="3294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059280" y="3664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724360" y="3313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8388360" y="3294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5743440" y="3706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6113520" y="558972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18:4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